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2BF-0779-4FFF-A35C-470B5F34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979-3FE6-43F3-A9E1-EE6C41FD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EDC-2B95-4E94-967E-6DF643BD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646-896F-49CE-881C-BA485722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248-E713-4DEA-A877-F4EF8D46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275-2DC2-413A-BE0C-1D1A644B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FFD-044C-43DF-B9C0-785587B1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452-D94A-47BC-AE49-53188313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2E3-2B60-4E7D-93A1-75DC8082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757-8E0A-4AD6-BE0D-B271DDC2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EBC-77FB-416F-8710-11078E6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9FB-4F73-47AF-B474-08E70D2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F4D8-3C22-447F-8DF1-DADA56F0A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yoramha@mandelinstitute.org.il" TargetMode="External"/><Relationship Id="rId2" Type="http://schemas.openxmlformats.org/officeDocument/2006/relationships/hyperlink" Target="mailto:adaml@netvision.net.i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68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ching and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ning in a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mmunity of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nking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– challenges and dilem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432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ram Harpa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Adam Lef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gust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68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ty of Thin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762200"/>
            <a:ext cx="78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ducational practice based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ternative “atomic pictur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5800" y="3578400"/>
            <a:ext cx="511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primary component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rtil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quiry /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d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114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87280" y="5155920"/>
            <a:ext cx="5257800" cy="1368720"/>
            <a:chOff x="1187280" y="5155920"/>
            <a:chExt cx="5257800" cy="1368720"/>
          </a:xfrm>
        </p:grpSpPr>
        <p:sp>
          <p:nvSpPr>
            <p:cNvPr id="125" name=""/>
            <p:cNvSpPr/>
            <p:nvPr/>
          </p:nvSpPr>
          <p:spPr>
            <a:xfrm>
              <a:off x="3922560" y="5156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858920" y="515628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1474920" y="515592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87280" y="5659560"/>
              <a:ext cx="5257800" cy="865080"/>
            </a:xfrm>
            <a:prstGeom prst="rect">
              <a:avLst/>
            </a:prstGeom>
            <a:solidFill>
              <a:srgbClr val="dd61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95280" y="3643200"/>
            <a:ext cx="7129440" cy="1586160"/>
            <a:chOff x="395280" y="3643200"/>
            <a:chExt cx="7129440" cy="1586160"/>
          </a:xfrm>
        </p:grpSpPr>
        <p:sp>
          <p:nvSpPr>
            <p:cNvPr id="130" name=""/>
            <p:cNvSpPr/>
            <p:nvPr/>
          </p:nvSpPr>
          <p:spPr>
            <a:xfrm>
              <a:off x="3851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03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99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00" y="4221000"/>
              <a:ext cx="2017800" cy="1008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86200" y="4221000"/>
              <a:ext cx="2017440" cy="1008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06920" y="4221000"/>
              <a:ext cx="2017800" cy="1008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280" y="4075200"/>
              <a:ext cx="201780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43280" y="4075200"/>
              <a:ext cx="201780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4075200"/>
              <a:ext cx="201780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96720" y="2490840"/>
            <a:ext cx="6839280" cy="1225440"/>
            <a:chOff x="396720" y="2490840"/>
            <a:chExt cx="6839280" cy="1225440"/>
          </a:xfrm>
        </p:grpSpPr>
        <p:sp>
          <p:nvSpPr>
            <p:cNvPr id="140" name=""/>
            <p:cNvSpPr/>
            <p:nvPr/>
          </p:nvSpPr>
          <p:spPr>
            <a:xfrm>
              <a:off x="539640" y="3068640"/>
              <a:ext cx="180036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59280" y="306864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35640" y="3068640"/>
              <a:ext cx="180036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720" y="2922480"/>
              <a:ext cx="180036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16360" y="292248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92720" y="2922480"/>
              <a:ext cx="180036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3200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5128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2764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19183200">
            <a:off x="7200720" y="47592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788600">
            <a:off x="7164000" y="537372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1120" y="2540160"/>
            <a:ext cx="2413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287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27480" y="3954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8400" y="1700280"/>
            <a:ext cx="12970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00" y="68904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rtile Question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2244600"/>
            <a:ext cx="604980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ich is preferable, to be a house-pet or a wild animal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non-disciplin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y do people marry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sociolog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oes competition make us better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interdisciplin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9320" y="3378240"/>
            <a:ext cx="20552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29880" y="4218120"/>
            <a:ext cx="8359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720" y="5056200"/>
            <a:ext cx="1648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0760" y="5894280"/>
            <a:ext cx="1694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1120" y="2540160"/>
            <a:ext cx="2413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51480" y="287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954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8400" y="1700280"/>
            <a:ext cx="12970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9320" y="3378240"/>
            <a:ext cx="20552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29880" y="4218120"/>
            <a:ext cx="8359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2720" y="5056200"/>
            <a:ext cx="1648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760" y="5894280"/>
            <a:ext cx="1694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1600" y="68904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rtile Question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2349360"/>
            <a:ext cx="597708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y did the peasants accept a class system that exploited and oppressed them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histo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an betrayal be forgiven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literature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at should we wear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chemist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174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87280" y="5155920"/>
            <a:ext cx="5257800" cy="1368720"/>
            <a:chOff x="1187280" y="5155920"/>
            <a:chExt cx="5257800" cy="1368720"/>
          </a:xfrm>
        </p:grpSpPr>
        <p:sp>
          <p:nvSpPr>
            <p:cNvPr id="185" name=""/>
            <p:cNvSpPr/>
            <p:nvPr/>
          </p:nvSpPr>
          <p:spPr>
            <a:xfrm>
              <a:off x="3922560" y="5156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858920" y="515628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1474920" y="515592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87280" y="5659560"/>
              <a:ext cx="5257800" cy="86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5280" y="3643200"/>
            <a:ext cx="7129440" cy="1586160"/>
            <a:chOff x="395280" y="3643200"/>
            <a:chExt cx="7129440" cy="1586160"/>
          </a:xfrm>
        </p:grpSpPr>
        <p:sp>
          <p:nvSpPr>
            <p:cNvPr id="190" name=""/>
            <p:cNvSpPr/>
            <p:nvPr/>
          </p:nvSpPr>
          <p:spPr>
            <a:xfrm>
              <a:off x="3851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3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99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820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86200" y="4221000"/>
              <a:ext cx="201744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692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5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43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6400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96720" y="2490840"/>
            <a:ext cx="6839280" cy="1225440"/>
            <a:chOff x="396720" y="2490840"/>
            <a:chExt cx="6839280" cy="1225440"/>
          </a:xfrm>
        </p:grpSpPr>
        <p:sp>
          <p:nvSpPr>
            <p:cNvPr id="200" name=""/>
            <p:cNvSpPr/>
            <p:nvPr/>
          </p:nvSpPr>
          <p:spPr>
            <a:xfrm>
              <a:off x="539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59280" y="306864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5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16360" y="292248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2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3200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5128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2764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 rot="19183200">
            <a:off x="7200720" y="47592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788600">
            <a:off x="7164000" y="537372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-34920" y="77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ood research question i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1968480"/>
            <a:ext cx="878544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requires that the researcher take a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c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requires deep and extensive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n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to the communal fertile ques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o the disciplinary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est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to students, and possibly also "objectively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actical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coped with in the context of time, material and other constr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067280" y="5335560"/>
            <a:ext cx="7920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863640"/>
            <a:ext cx="88200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ertile ques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oes competition make us better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2276640"/>
            <a:ext cx="79236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1700280"/>
            <a:ext cx="13687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843280" y="170028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700000" y="1701720"/>
            <a:ext cx="143820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1701720"/>
            <a:ext cx="180036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4581360"/>
            <a:ext cx="7920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4653000"/>
            <a:ext cx="79236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2239920"/>
            <a:ext cx="79236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2206800"/>
            <a:ext cx="295272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here be a game without compet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45080" y="2205000"/>
            <a:ext cx="244800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esting improve achie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27640" y="4503600"/>
            <a:ext cx="288000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oo much competition lead to chea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000" y="4438800"/>
            <a:ext cx="338436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usiness destroyed competitive s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1700280"/>
            <a:ext cx="7164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5265720"/>
            <a:ext cx="251964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competition do to friend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95280" y="2421000"/>
            <a:ext cx="6838560" cy="1225440"/>
            <a:chOff x="395280" y="2421000"/>
            <a:chExt cx="6838560" cy="1225440"/>
          </a:xfrm>
        </p:grpSpPr>
        <p:sp>
          <p:nvSpPr>
            <p:cNvPr id="232" name=""/>
            <p:cNvSpPr/>
            <p:nvPr/>
          </p:nvSpPr>
          <p:spPr>
            <a:xfrm>
              <a:off x="537840" y="299880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57480" y="2998800"/>
              <a:ext cx="179964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33840" y="299880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280" y="285264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14560" y="2852640"/>
              <a:ext cx="179964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90920" y="285264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3020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4948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2584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242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187280" y="5155920"/>
            <a:ext cx="5257800" cy="1368720"/>
            <a:chOff x="1187280" y="5155920"/>
            <a:chExt cx="5257800" cy="1368720"/>
          </a:xfrm>
        </p:grpSpPr>
        <p:sp>
          <p:nvSpPr>
            <p:cNvPr id="253" name=""/>
            <p:cNvSpPr/>
            <p:nvPr/>
          </p:nvSpPr>
          <p:spPr>
            <a:xfrm>
              <a:off x="3922560" y="5156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858920" y="515628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1474920" y="515592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87280" y="5659560"/>
              <a:ext cx="5257800" cy="86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5280" y="3643200"/>
            <a:ext cx="7129440" cy="1586160"/>
            <a:chOff x="395280" y="3643200"/>
            <a:chExt cx="7129440" cy="1586160"/>
          </a:xfrm>
        </p:grpSpPr>
        <p:sp>
          <p:nvSpPr>
            <p:cNvPr id="258" name=""/>
            <p:cNvSpPr/>
            <p:nvPr/>
          </p:nvSpPr>
          <p:spPr>
            <a:xfrm>
              <a:off x="3851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03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99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820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86200" y="4221000"/>
              <a:ext cx="201744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0692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5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43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 rot="19183200">
            <a:off x="7200720" y="47592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788600">
            <a:off x="7164000" y="537372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08000" y="1906560"/>
          <a:ext cx="8926560" cy="3894120"/>
        </p:xfrm>
        <a:graphic>
          <a:graphicData uri="http://schemas.openxmlformats.org/drawingml/2006/table">
            <a:tbl>
              <a:tblPr/>
              <a:tblGrid>
                <a:gridCol w="2257200"/>
                <a:gridCol w="2075040"/>
                <a:gridCol w="2149560"/>
                <a:gridCol w="2444760"/>
              </a:tblGrid>
              <a:tr h="905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ject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disciplin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agogic disciplin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8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aim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lcating existing 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ing new knowledg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thinking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understa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08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” and “accepted” 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s of uncertainty and controversy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ideas”: disciplinary insights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controvers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611280" y="3668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quiry: from School subject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dagogical Discip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217440" y="1978200"/>
          <a:ext cx="8675640" cy="4114800"/>
        </p:xfrm>
        <a:graphic>
          <a:graphicData uri="http://schemas.openxmlformats.org/drawingml/2006/table">
            <a:tbl>
              <a:tblPr/>
              <a:tblGrid>
                <a:gridCol w="1833480"/>
                <a:gridCol w="2233800"/>
                <a:gridCol w="2448000"/>
                <a:gridCol w="2160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ject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disciplin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agogic disciplin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s of infor-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y sources (e.g. text-book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sources privileged by discipline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rl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a text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rred perfor-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ination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under-sta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611280" y="3668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quiry: from School subject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dagogical Discipline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6360" y="68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916280"/>
            <a:ext cx="754380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ictures of teaching, learning, knowledge and educational aims (Yo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emplification of the community of thinking framework (Ad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84720" y="4869000"/>
            <a:ext cx="47005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080" y="549360"/>
            <a:ext cx="8820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search question: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s business destroyed s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2560" y="1857240"/>
            <a:ext cx="619452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ould you recommend conducting inquir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1700280"/>
            <a:ext cx="6769080" cy="4635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 of lines of inqui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 based on news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s with athletes and/or f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a team’s financial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athletes’ biographies – “then” and “n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review of sports fil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278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9183200">
            <a:off x="7200720" y="47592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87280" y="5157360"/>
            <a:ext cx="5257800" cy="1368720"/>
            <a:chOff x="1187280" y="5157360"/>
            <a:chExt cx="5257800" cy="1368720"/>
          </a:xfrm>
        </p:grpSpPr>
        <p:sp>
          <p:nvSpPr>
            <p:cNvPr id="290" name=""/>
            <p:cNvSpPr/>
            <p:nvPr/>
          </p:nvSpPr>
          <p:spPr>
            <a:xfrm>
              <a:off x="3922560" y="5157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858920" y="515772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1474920" y="515736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87280" y="5661000"/>
              <a:ext cx="5257800" cy="865080"/>
            </a:xfrm>
            <a:prstGeom prst="rect">
              <a:avLst/>
            </a:prstGeom>
            <a:solidFill>
              <a:srgbClr val="dd61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95280" y="3645000"/>
            <a:ext cx="7129440" cy="1585440"/>
            <a:chOff x="395280" y="3645000"/>
            <a:chExt cx="7129440" cy="1585440"/>
          </a:xfrm>
        </p:grpSpPr>
        <p:sp>
          <p:nvSpPr>
            <p:cNvPr id="295" name=""/>
            <p:cNvSpPr/>
            <p:nvPr/>
          </p:nvSpPr>
          <p:spPr>
            <a:xfrm>
              <a:off x="3851280" y="364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03280" y="364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99280" y="364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8200" y="4222440"/>
              <a:ext cx="201780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86200" y="4222440"/>
              <a:ext cx="201744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6920" y="4222440"/>
              <a:ext cx="201780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5280" y="4076640"/>
              <a:ext cx="2017800" cy="100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43280" y="4076640"/>
              <a:ext cx="2017800" cy="100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64000" y="4076640"/>
              <a:ext cx="2017800" cy="100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788600">
            <a:off x="7164000" y="537372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96720" y="2490840"/>
            <a:ext cx="6839280" cy="1225440"/>
            <a:chOff x="396720" y="2490840"/>
            <a:chExt cx="6839280" cy="1225440"/>
          </a:xfrm>
        </p:grpSpPr>
        <p:sp>
          <p:nvSpPr>
            <p:cNvPr id="306" name=""/>
            <p:cNvSpPr/>
            <p:nvPr/>
          </p:nvSpPr>
          <p:spPr>
            <a:xfrm>
              <a:off x="539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59280" y="306864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35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6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16360" y="292248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92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3200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5128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2764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833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perform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198900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knowledge in your ow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ing example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neralize from an item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dentify knowledge in different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phenomena by the u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ive arguments to justif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dict on the basi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833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understanding perform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85904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eak knowledge into its components (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a stance with regard to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iticize knowledge on the basi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knowledge on the basi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 simulation, model or metaph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k a question on the basi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427640" y="4221000"/>
            <a:ext cx="2376360" cy="129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17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ding perform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91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rehensive understanding performance which builds and exhibits understandings for an aud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56000" y="5805360"/>
            <a:ext cx="1801800" cy="792360"/>
          </a:xfrm>
          <a:prstGeom prst="rect">
            <a:avLst/>
          </a:prstGeom>
          <a:solidFill>
            <a:srgbClr val="dd6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k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75640" y="3430440"/>
            <a:ext cx="1584000" cy="79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4581360"/>
            <a:ext cx="2160360" cy="1008360"/>
          </a:xfrm>
          <a:prstGeom prst="rect">
            <a:avLst/>
          </a:prstGeom>
          <a:solidFill>
            <a:srgbClr val="dd6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236000" y="4941720"/>
            <a:ext cx="1800000" cy="1079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19640" y="5661000"/>
            <a:ext cx="1513080" cy="1081080"/>
          </a:xfrm>
          <a:prstGeom prst="rect">
            <a:avLst/>
          </a:prstGeom>
          <a:solidFill>
            <a:srgbClr val="dd6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6920" y="3284640"/>
            <a:ext cx="2017440" cy="1081080"/>
          </a:xfrm>
          <a:prstGeom prst="rect">
            <a:avLst/>
          </a:prstGeom>
          <a:solidFill>
            <a:srgbClr val="dd6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3284640"/>
            <a:ext cx="1944720" cy="1079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communal concluding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33344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282920"/>
            <a:ext cx="4392720" cy="84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hy do people mar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1601640"/>
            <a:ext cx="4464000" cy="84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hat should we w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5130720"/>
            <a:ext cx="7164360" cy="1604520"/>
          </a:xfrm>
          <a:prstGeom prst="rect">
            <a:avLst/>
          </a:prstGeom>
          <a:solidFill>
            <a:srgbClr val="dd6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about marriage?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8000" y="2374920"/>
            <a:ext cx="7164720" cy="1604520"/>
          </a:xfrm>
          <a:prstGeom prst="rect">
            <a:avLst/>
          </a:prstGeom>
          <a:solidFill>
            <a:srgbClr val="dd6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hion show and information display at shopping 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7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xamples of communal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8000" y="1844640"/>
            <a:ext cx="8064360" cy="15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Why did the peasants accept a class system that exploited and oppressed the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4835520"/>
            <a:ext cx="6392880" cy="801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Does competition make us better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19280" y="5605560"/>
            <a:ext cx="7380360" cy="849240"/>
          </a:xfrm>
          <a:prstGeom prst="rect">
            <a:avLst/>
          </a:prstGeom>
          <a:solidFill>
            <a:srgbClr val="dd6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k trial with evidence and witn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19280" y="3357720"/>
            <a:ext cx="4392720" cy="849240"/>
          </a:xfrm>
          <a:prstGeom prst="rect">
            <a:avLst/>
          </a:prstGeom>
          <a:solidFill>
            <a:srgbClr val="dd6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mus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345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187280" y="5155920"/>
            <a:ext cx="5257800" cy="1368720"/>
            <a:chOff x="1187280" y="5155920"/>
            <a:chExt cx="5257800" cy="1368720"/>
          </a:xfrm>
        </p:grpSpPr>
        <p:sp>
          <p:nvSpPr>
            <p:cNvPr id="356" name=""/>
            <p:cNvSpPr/>
            <p:nvPr/>
          </p:nvSpPr>
          <p:spPr>
            <a:xfrm>
              <a:off x="3922560" y="5156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858920" y="515628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1474920" y="515592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87280" y="5659560"/>
              <a:ext cx="5257800" cy="86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5280" y="3643200"/>
            <a:ext cx="7129440" cy="1586160"/>
            <a:chOff x="395280" y="3643200"/>
            <a:chExt cx="7129440" cy="1586160"/>
          </a:xfrm>
        </p:grpSpPr>
        <p:sp>
          <p:nvSpPr>
            <p:cNvPr id="361" name=""/>
            <p:cNvSpPr/>
            <p:nvPr/>
          </p:nvSpPr>
          <p:spPr>
            <a:xfrm>
              <a:off x="3851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03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99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820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86200" y="4221000"/>
              <a:ext cx="201744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0692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5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43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6400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96720" y="2490840"/>
            <a:ext cx="6839280" cy="1225440"/>
            <a:chOff x="396720" y="2490840"/>
            <a:chExt cx="6839280" cy="1225440"/>
          </a:xfrm>
        </p:grpSpPr>
        <p:sp>
          <p:nvSpPr>
            <p:cNvPr id="371" name=""/>
            <p:cNvSpPr/>
            <p:nvPr/>
          </p:nvSpPr>
          <p:spPr>
            <a:xfrm>
              <a:off x="539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59280" y="306864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35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6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16360" y="292248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92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3200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5128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2764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rot="19183200">
            <a:off x="7200720" y="40428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788600">
            <a:off x="7164000" y="530208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7440" y="1773360"/>
            <a:ext cx="8675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the common knowledge basis necessary for understanding the fertile question, for creating questions and for conducting research, vi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139392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3571920"/>
            <a:ext cx="3744720" cy="29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central concepts 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” the fertil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ing “mini-inquir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0720" y="3573360"/>
            <a:ext cx="417672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concepts to the questions that gave rise to them (archeology of knowle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“questions bank”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388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187280" y="5155920"/>
            <a:ext cx="5257800" cy="1368720"/>
            <a:chOff x="1187280" y="5155920"/>
            <a:chExt cx="5257800" cy="1368720"/>
          </a:xfrm>
        </p:grpSpPr>
        <p:sp>
          <p:nvSpPr>
            <p:cNvPr id="399" name=""/>
            <p:cNvSpPr/>
            <p:nvPr/>
          </p:nvSpPr>
          <p:spPr>
            <a:xfrm>
              <a:off x="3922560" y="5156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4858920" y="515628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1474920" y="515592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87280" y="5659560"/>
              <a:ext cx="5257800" cy="86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95280" y="3643200"/>
            <a:ext cx="7129440" cy="1586160"/>
            <a:chOff x="395280" y="3643200"/>
            <a:chExt cx="7129440" cy="1586160"/>
          </a:xfrm>
        </p:grpSpPr>
        <p:sp>
          <p:nvSpPr>
            <p:cNvPr id="404" name=""/>
            <p:cNvSpPr/>
            <p:nvPr/>
          </p:nvSpPr>
          <p:spPr>
            <a:xfrm>
              <a:off x="3851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3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99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820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86200" y="4221000"/>
              <a:ext cx="201744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0692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5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43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6400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96720" y="2490840"/>
            <a:ext cx="6839280" cy="1225440"/>
            <a:chOff x="396720" y="2490840"/>
            <a:chExt cx="6839280" cy="1225440"/>
          </a:xfrm>
        </p:grpSpPr>
        <p:sp>
          <p:nvSpPr>
            <p:cNvPr id="414" name=""/>
            <p:cNvSpPr/>
            <p:nvPr/>
          </p:nvSpPr>
          <p:spPr>
            <a:xfrm>
              <a:off x="539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59280" y="306864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35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16360" y="292248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92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3200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5128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2764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 rot="19183200">
            <a:off x="7200720" y="40428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788600">
            <a:off x="7164000" y="530208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260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atomic pictures”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ition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80" y="19731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290844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is 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7735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is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4710240"/>
            <a:ext cx="80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educated is to know valuab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8000" y="1628640"/>
            <a:ext cx="89265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the learner with information and stimulus to further and deepen his or her learning; providing the teacher with information to improve his or he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139392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3573360"/>
            <a:ext cx="374472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co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e student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solve students’ problems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00720" y="3573360"/>
            <a:ext cx="417672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 to what can be realistically impro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xamples, but aim for general 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6360" y="68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and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36360" y="68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920" y="194616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ram Harpaz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yoramha@mandelinstitute.org.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m Lefstein: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aml@netvision.net.i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87280" y="4068720"/>
            <a:ext cx="74311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484280"/>
            <a:ext cx="230328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Mathe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7440" y="1701720"/>
            <a:ext cx="215892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ip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61080" y="4797360"/>
            <a:ext cx="21589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508464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7080" y="566100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7800" y="6093000"/>
            <a:ext cx="360360" cy="2156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5080" y="4869000"/>
            <a:ext cx="360360" cy="2156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544500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360" y="4797360"/>
            <a:ext cx="2951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080" y="10526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2720" y="88740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ientific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3080" y="391176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ducationa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6360" y="173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“Grand Picture” -- a mimetic ch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637000"/>
            <a:ext cx="1513080" cy="1223640"/>
          </a:xfrm>
          <a:prstGeom prst="rightArrow">
            <a:avLst>
              <a:gd name="adj1" fmla="val 49917"/>
              <a:gd name="adj2" fmla="val 347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6641280" y="1359360"/>
            <a:ext cx="2162160" cy="284328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2843280"/>
              <a:gd name="textAreaBottom" fmla="*/ 2843640 h 284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929" stAng="10800000" swAng="5400000"/>
                <a:lnTo>
                  <a:pt x="16298" y="2231"/>
                </a:lnTo>
                <a:lnTo>
                  <a:pt x="16298" y="0"/>
                </a:lnTo>
                <a:lnTo>
                  <a:pt x="21600" y="6079"/>
                </a:lnTo>
                <a:lnTo>
                  <a:pt x="16298" y="12158"/>
                </a:lnTo>
                <a:lnTo>
                  <a:pt x="16298" y="9927"/>
                </a:lnTo>
                <a:lnTo>
                  <a:pt x="12427" y="9927"/>
                </a:lnTo>
                <a:arcTo wR="4731" hR="2233" stAng="16200000" swAng="-5400000"/>
                <a:lnTo>
                  <a:pt x="769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1280" y="166536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5373720"/>
            <a:ext cx="1800360" cy="863640"/>
          </a:xfrm>
          <a:prstGeom prst="leftArrow">
            <a:avLst>
              <a:gd name="adj1" fmla="val 50000"/>
              <a:gd name="adj2" fmla="val 52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630864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3440" y="42670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sson plan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797360"/>
            <a:ext cx="0" cy="180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6597720"/>
            <a:ext cx="2952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797360"/>
            <a:ext cx="2952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4797360"/>
            <a:ext cx="0" cy="503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5661000"/>
            <a:ext cx="0" cy="36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5300640"/>
            <a:ext cx="216000" cy="289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6381720"/>
            <a:ext cx="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6019920"/>
            <a:ext cx="216000" cy="28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69960" y="5805360"/>
            <a:ext cx="914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u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6560" y="5589720"/>
            <a:ext cx="360360" cy="2156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616572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5589720"/>
            <a:ext cx="360360" cy="2156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602136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402920" y="6308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6720" y="4869000"/>
            <a:ext cx="1366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" y="4869000"/>
            <a:ext cx="1366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9160" y="42926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udent’s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108360" y="3681720"/>
            <a:ext cx="1081080" cy="863640"/>
          </a:xfrm>
          <a:prstGeom prst="rightArrow">
            <a:avLst>
              <a:gd name="adj1" fmla="val 50000"/>
              <a:gd name="adj2" fmla="val 31294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1286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lvement +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3068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sk invol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go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lo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context)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per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inking operations with knowle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038320"/>
            <a:ext cx="821232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ins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proc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 and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ropri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ic conditions for effective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ic conditions for effective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938240"/>
            <a:ext cx="7543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ve ongo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ve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ibu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and will vs. other people or l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remental learners vs. entity lear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55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ternative “atomic pictur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925640"/>
            <a:ext cx="849600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being involved and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is providing the conditions for effe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is a structure or a “story” tha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educated is knowing how to relate to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6360" y="68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and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1:59:48Z</dcterms:created>
  <dc:creator>yoramha</dc:creator>
  <dc:description/>
  <dc:language>en-US</dc:language>
  <cp:lastModifiedBy>DECS Online Services</cp:lastModifiedBy>
  <cp:lastPrinted>2004-06-25T23:04:48Z</cp:lastPrinted>
  <dcterms:modified xsi:type="dcterms:W3CDTF">2006-11-13T04:04:52Z</dcterms:modified>
  <cp:revision>144</cp:revision>
  <dc:subject>Yoram Harpaz / Adam Lefstein</dc:subject>
  <dc:title>Teaching and learning in a community of thinking - challenges and dilemmas</dc:title>
</cp:coreProperties>
</file>